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CE16-A82D-4320-9A65-E21DB4C2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B227-8C09-46EC-9130-A39468FB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C4EF-3F17-4F34-96C5-2197BC54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52EF-98C3-44AC-9260-7BCC67BD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94AB-3799-48FD-B461-F93D7F6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1A5-7B0B-4EE5-9E58-FB4868E9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428A-553E-4B26-B976-67AC4461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949-76EE-470F-B9F1-188E991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231-8606-432D-B0F6-28A2FA56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0B3-4CE2-4865-86DC-9EF1E424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FB23-76EC-4B95-939E-B7A94E2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7EC6-D24A-4E4A-8AAC-A88DC07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DA4C-A4C5-4F02-9BEC-9DDF30F0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14D5-290F-4C12-A3EF-4182639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5CFD-A69A-4DF1-A6BA-F7C4092D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DCF7-738C-412A-A6D8-E6D0B7BA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E2BC-21BC-4B58-8BB6-DC12BDE8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E85D-BDAD-497C-BF3E-95388ACD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44B9-30AA-46C6-B3B6-8E0A3A62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C1B5-0CBB-450B-B9B7-4C990566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DB1C-5FF0-41AA-9ACC-88507ABD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647E-83BF-465F-8C9E-05BDE56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590D-4B49-489B-BB0F-EF8860C6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C107-8BA7-44DF-908D-4749A48F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7705-47FA-4153-8B9D-30F61803F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8B24-0374-46AA-AECD-0DDC7F2C6E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ooks.ru/img/224668m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9640" y="90792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 занят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32000" y="2349360"/>
            <a:ext cx="7561080" cy="16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Здоровый образ жизн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4365720"/>
            <a:ext cx="23083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57440" y="1987920"/>
            <a:ext cx="6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4720" y="1915200"/>
            <a:ext cx="6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5800" y="220392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3080" y="249120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3800" y="1843560"/>
            <a:ext cx="67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4360" y="3427920"/>
            <a:ext cx="5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4720" y="3356640"/>
            <a:ext cx="6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8720" y="3356640"/>
            <a:ext cx="6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91800" y="2635560"/>
            <a:ext cx="91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ая¸нормальная деятельность организ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полное физическое и психическое благополуч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00" y="4075560"/>
            <a:ext cx="56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То или иное состояние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280" y="5876280"/>
            <a:ext cx="45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 Толкового словаря  С. И. Ожег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5099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88 -0.0625 C -0.00486 -0.09259 0.00851 -0.12222 0.01458 -0.13634 C 0.02135 -0.15 0.01892 -0.14676 0.01962 -0.1493 E">
                                      <p:cBhvr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-0.07847 -0.0581 -0.15625 -0.11597 -0.1875 -0.13935 E">
                                      <p:cBhvr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0.08889 -0.12894 E">
                                      <p:cBhvr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0.12378 -0.22338 E">
                                      <p:cBhvr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C 0.0474 -0.07222 0.09532 -0.14352 0.11546 -0.17361 C 0.13612 -0.20254 0.12778 -0.19213 0.12014 -0.18055 E">
                                      <p:cBhvr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4 -0.06806 C 0.01163 -0.18982 0.04427 -0.31112 0.05781 -0.35996 E">
                                      <p:cBhvr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-0.01366 C 0.1059 -0.15301 0.20278 -0.2912 0.24271 -0.34676 C 0.28281 -0.40208 0.24774 -0.34838 0.24844 -0.34861 E">
                                      <p:cBhvr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042 C 0.18889 -0.15185 0.37413 -0.29329 0.44861 -0.34954 E">
                                      <p:cBhvr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МИШЕЛЬ ЭЙКЕМ ДЕ МОНТЕНЬ"/>
          <p:cNvPicPr/>
          <p:nvPr/>
        </p:nvPicPr>
        <p:blipFill>
          <a:blip r:embed="rId1"/>
          <a:stretch/>
        </p:blipFill>
        <p:spPr>
          <a:xfrm>
            <a:off x="2855880" y="1484280"/>
            <a:ext cx="333864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57800" y="6164640"/>
            <a:ext cx="74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33–1592), французский писатель и филосо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000" y="83556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Здоровье – это единственная драгоценн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08720" y="5805360"/>
            <a:ext cx="569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родот - древнегреческий исто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около 484 - около 430-420 гг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571840" cy="3529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435960"/>
            <a:ext cx="846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Когда нет здоров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чит мудрость, не может расцвести искусст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играют си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олезно богатство и бессилен разу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332000" y="1052640"/>
          <a:ext cx="2448000" cy="44514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.Соблюдай чистот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2.Правильно питай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3.Сочетай труд и отды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.Не заводи вредных привыче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780000" y="1052640"/>
          <a:ext cx="2303280" cy="402408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Чтобы быть здоровым, правила нужно выполнять не от случая  к случаю, а </a:t>
                      </a:r>
                      <a:r>
                        <a:rPr b="1" lang="en-US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постоян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84720" y="1052640"/>
          <a:ext cx="2592360" cy="3193920"/>
        </p:xfrm>
        <a:graphic>
          <a:graphicData uri="http://schemas.openxmlformats.org/drawingml/2006/table">
            <a:tbl>
              <a:tblPr/>
              <a:tblGrid>
                <a:gridCol w="259236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чему же люди почти не выполняют правил здорового образа жизни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6000" y="4508640"/>
            <a:ext cx="1461960" cy="20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4724280"/>
            <a:ext cx="1214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72680" y="1915560"/>
            <a:ext cx="676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Чтобы жить по правила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здорового образа жизни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9400" y="3715560"/>
            <a:ext cx="630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необходим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уметь управлять соб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865080" cy="822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865080" cy="822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340000" y="5229360"/>
            <a:ext cx="865080" cy="822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7020000" y="5229360"/>
            <a:ext cx="865080" cy="822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835280" y="5877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356000" y="4941720"/>
            <a:ext cx="1432080" cy="16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5805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реж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924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7d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71640" y="404640"/>
            <a:ext cx="341964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69228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0000"/>
                </a:solidFill>
                <a:latin typeface="Arial"/>
              </a:rPr>
              <a:t>Гла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0000"/>
                </a:solidFill>
                <a:latin typeface="Arial"/>
              </a:rPr>
              <a:t>факторы здоров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619280" y="1484280"/>
            <a:ext cx="129528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844640"/>
            <a:ext cx="1800360" cy="3384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16000" y="1916280"/>
            <a:ext cx="863640" cy="3313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1268280"/>
            <a:ext cx="1081080" cy="1150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404640"/>
            <a:ext cx="341964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69228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0000"/>
                </a:solidFill>
                <a:latin typeface="Arial"/>
              </a:rPr>
              <a:t>Гла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a0000"/>
                </a:solidFill>
                <a:latin typeface="Arial"/>
              </a:rPr>
              <a:t>факторы здоров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19280" y="1484280"/>
            <a:ext cx="129528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1844640"/>
            <a:ext cx="1800360" cy="3384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16000" y="1916280"/>
            <a:ext cx="863640" cy="3313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1268280"/>
            <a:ext cx="1081080" cy="1150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7680" y="122292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-  Зачем нам нужно   это занят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760" y="194364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-  Что вам показалось важным на занят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09840" y="4722480"/>
            <a:ext cx="38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Я поня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Хочу похвалить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441440" cy="112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024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books.ru/img/224668m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карт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osinform.ru/society/page/8/- карт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0120" y="4004640"/>
            <a:ext cx="77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krugosvet.ru/enc/gumanitarnye_nauki/filosofiya/MONTEN_MISHEL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9960" y="4652280"/>
            <a:ext cx="27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li.ru/interface/pda/?j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4:06:43Z</dcterms:created>
  <dc:creator>5</dc:creator>
  <dc:description/>
  <dc:language>en-US</dc:language>
  <cp:lastModifiedBy>5</cp:lastModifiedBy>
  <dcterms:modified xsi:type="dcterms:W3CDTF">2009-12-10T16:20:27Z</dcterms:modified>
  <cp:revision>17</cp:revision>
  <dc:subject/>
  <dc:title>Слайд 1</dc:title>
</cp:coreProperties>
</file>